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B99-7148-46B4-B041-4639EDEB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06C-43FE-4F20-A399-5685EEC7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DFC-9576-4FC0-A943-232A48BB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087-49BB-44EC-A881-191FC5D8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CF98-9DD1-48EF-AB24-C5EE349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E365-CFC2-495E-8BB8-FB5DB057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BC33-EDA5-4640-BA9C-2ADD3181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61BAD-698B-4894-B18E-632ECA3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1FE9-28CE-4B92-88A7-813B36E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78991-A1A2-42B3-BD66-7347A249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C750-7C4D-4E8B-B40C-DC0990F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46C-5FD0-42BC-910C-D45A95AA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C5BAF-9FAB-4945-A78B-6000925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9218-AB0C-479F-9351-FAE33E8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671B4-2369-4DA3-A588-CBDF4BC1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6626F-A7AC-4AFF-9D59-18612C5D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D4D25-B7D3-485E-8B73-BD01A061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148-4550-4D57-A3D4-15074B9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37C-595B-49AE-B1ED-C5DE286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F4F-B51B-491F-961C-F98EA8E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556-D2AF-41F5-90C2-D6A4365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59F-2CCE-4C49-B231-54857562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7D5-E8B6-45E8-B54C-EE01E8E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95D-1163-4B54-873C-7FCD72E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9D7-9FAD-477F-8EC1-828129D4C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E541-8026-4490-AEF6-EA1D6DE81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4859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Полезные </a:t>
            </a:r>
            <a:br>
              <a:rPr sz="4800"/>
            </a:b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ископаемые </a:t>
            </a:r>
            <a:br>
              <a:rPr sz="4800"/>
            </a:b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Республики Ком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Руды редких металл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628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вольфрама, молибдена и о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17002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редких эле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16286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ды благородных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1741680" cy="1871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332400" y="2781360"/>
            <a:ext cx="1725840" cy="1871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635280" y="270828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Приполярном и Полярном Урале известны редкометальные тантал-ниобиевые проя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00280" cy="239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еологическое строение территории РК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6858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1847880" cy="191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2637000"/>
            <a:ext cx="61930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я РК обладает сложным геологическим строением. Важнейшими структурами здесь является северо-восточная часть Русской платформы, северные части Уральской складчатой области и Предуральского краевого проги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е геологическое строение, неоднократное проявление мощных разновозрастных метаморфических, тектонических и магматических процессов, предопределили формирование на этой территории широкого комплекса полезных ископаемых разного возраста, генезиса и различной формационной принадлеж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орючие полезные ископаемы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нимают ведущее место среди разрабатываемых в РК , составляют основу ее современной экономики, имеют большое значение для промышленности всей Ро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58920" y="2637000"/>
            <a:ext cx="2952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42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гленосные от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1547640" cy="1163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3419280" y="2781360"/>
            <a:ext cx="93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429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Горюч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ла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781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342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сфальт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2781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708280"/>
            <a:ext cx="2735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35002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фть и природный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429264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ы с юрскими отложениями. Запаса-35млр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933720"/>
            <a:ext cx="172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урочены к каменноугольным отложениям. Ресурсы составляют 10 млн. 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4149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нимает площадь более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724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К 47 месторождений нефти и г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Горно-химическ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84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сфор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19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2997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менная 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234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ы с осадочными отложениями юрского возра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2421000"/>
            <a:ext cx="18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стны на Южном Тимане, в западном Притиманье, в Пермских отлож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6000" y="2421000"/>
            <a:ext cx="19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крупным по промышленным запасам является Хойлинское месторож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Горно-техническ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лю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9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ный хруст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376360" cy="188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924280"/>
            <a:ext cx="19904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риродные  каменные материал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773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вестняки  и долом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ип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773360"/>
            <a:ext cx="24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ины и суглинки кирпичные и огнеуп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9640" y="191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чаники, кварциты, кристаллические п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1439640" cy="1360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659640" y="357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производства бутового камня, щебня и стеновы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ются для производства кирпи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70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изготовления облицовочных пл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005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одны для получения цемента и сухой штукату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амнесамоцветное сырь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34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вар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б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162864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елочные кам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г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ш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8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рам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7162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фрит и жаде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3645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пентин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1487520" cy="120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139068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1238400" cy="1334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050920" y="4508640"/>
            <a:ext cx="1322640" cy="1176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0920" y="4494240"/>
            <a:ext cx="1368360" cy="124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7596360" y="4365720"/>
            <a:ext cx="1274760" cy="1274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3924360" y="450864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1331640" y="2349360"/>
            <a:ext cx="460836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16360" y="2565360"/>
            <a:ext cx="33112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572000" y="2708280"/>
            <a:ext cx="1944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72000" y="2781360"/>
            <a:ext cx="43164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2781360"/>
            <a:ext cx="72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Лечебно-минеральные вод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ерритории РК имеются многочисленные проявления подземных минеральных в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й тип вод, имеющий широкое распространение: глубинные теплые (25-3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) и горячие (35-7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) высоко минерализованные хлоридно-натриевые и хлоридно-натриево-кальциевые рассолы, обогащенные бромом, а иногда и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Рудные полезные ископаемы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55736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ганц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84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м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155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тановые р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5120" y="2873520"/>
            <a:ext cx="13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23840" y="2873520"/>
            <a:ext cx="11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2637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тречаются в девонских, каменноугольных, пермских отлож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637000"/>
            <a:ext cx="23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ходятся за пределами РК. Они приурочены к массивам ультрооснов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637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вляются в РК базой развития горнодобывающей и металлургической промышленности. Запас руды составляет 3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1:58:17Z</dcterms:created>
  <dc:creator>ти</dc:creator>
  <dc:description/>
  <dc:language>en-US</dc:language>
  <cp:lastModifiedBy>студент</cp:lastModifiedBy>
  <dcterms:modified xsi:type="dcterms:W3CDTF">2009-11-26T13:10:43Z</dcterms:modified>
  <cp:revision>24</cp:revision>
  <dc:subject/>
  <dc:title>Полезные ископаемые Республики Коми</dc:title>
</cp:coreProperties>
</file>